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365-9448-42BC-97BE-8036B4B0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363-5933-48A5-A060-79383C9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03C-EAD8-439B-9D92-88B65E24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737-90B4-424C-99F6-04B1CE8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3D5-89AF-453B-80D4-114D645D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077-0F30-4CD1-A734-371CAC4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CF5-614C-404D-A642-150BFFA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EFB-7E91-4796-B3A6-11B83224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DF0-7D85-46B8-96B8-E2507A6A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368-437B-4F99-9867-AE41AFB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136-1E28-4715-81CE-4B21260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48E-0546-462F-A19B-7F8F3A6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C980-1BBF-4664-A7A2-573C036DA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jpg&amp;imgrefurl=http://www.evisu.com/blog/tag/jeans/&amp;h=800&amp;w=800&amp;sz=84&amp;hl=en&amp;start=1&amp;sig2=9UphbXiX5FwFngpmIJLyVA&amp;um=1&amp;usg=__aBTQot5B1bP-Rc2ZDuKU9anQndI=&amp;tbnid=tRkG5dQXA7VlXM:&amp;tbnh=143&amp;tbnw=143&amp;ei=OO-zSPidNYrQetSZ_JUI&amp;prev=/images?q=daruma+doll&amp;um=1&amp;hl=en&amp;rlz=1T4ADBF_enUS221US222&amp;sa=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1.ocn.ne.jp/~popyah/yamanashi/oyako.jpg&amp;imgrefurl=http://darumadollmuseum.blogspot.com/2004_12_01_archive.html&amp;h=375&amp;w=500&amp;sz=26&amp;hl=en&amp;start=33&amp;sig2=lNzSjYhJ8olXekqqGsv_bw&amp;um=1&amp;usg=__5z9Y_JB6QZcPFGuuMu_SMre1x7c=&amp;tbnid=pcxJ2y-8ebq7EM:&amp;tbnh=98&amp;tbnw=130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ighlightskids.com/Stories/NonFiction/images/NF0100_darumaSan.jpg&amp;imgrefurl=http://www.highlightskids.com/Stories/NonFiction/NF0100_darumaSan.asp&amp;h=359&amp;w=300&amp;sz=26&amp;hl=en&amp;start=34&amp;sig2=61fsZ85LqeJ--HJWd7bGsQ&amp;um=1&amp;usg=__RB4VR5dEMMcTSYjQbqlRlwDTiLM=&amp;tbnid=f7tT3M3FwJogOM:&amp;tbnh=121&amp;tbnw=10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yosare.com/kokeshi/abom-ph/abom-p02-02.jpg&amp;imgrefurl=http://darumadollmuseum.blogspot.com/2005/03/kokeshi-2.html&amp;h=390&amp;w=520&amp;sz=31&amp;hl=en&amp;start=38&amp;sig2=FLDQ6ehYovcjxveH7skg1w&amp;um=1&amp;usg=__-7XF_epgLAX9OHCAbRjkliU-Goo=&amp;tbnid=Jqvx4UryG7GHCM:&amp;tbnh=98&amp;tbnw=131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sahi-net.or.jp/~um8d-tmzk/matukawa1.jpg&amp;imgrefurl=http://darumadollmuseum.blogspot.com/2005/02/hige-daruma-with-beard.html&amp;h=356&amp;w=309&amp;sz=31&amp;hl=en&amp;start=57&amp;sig2=8VDC3inZ1kjR16yfO1G6xw&amp;um=1&amp;usg=__2VsjSzXt5oNhXYtZM_KamIbiy0E=&amp;tbnid=eyaYhWZZN2mzkM:&amp;tbnh=121&amp;tbnw=105&amp;ei=V_CzSMGWNqioeaqKrY4I&amp;prev=/images?q=daruma+doll&amp;start=40&amp;ndsp=20&amp;um=1&amp;hl=en&amp;rlz=1T4ADBF_enUS221US222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logadilla.com/wp-content/uploads/2007/05/daruma.jpg&amp;imgrefurl=http://www.blogadilla.com/tag/what-is-it/&amp;h=880&amp;w=732&amp;sz=89&amp;hl=en&amp;start=2&amp;sig2=9tUCMlYix1qR-ePmtmuLIA&amp;um=1&amp;usg=__aDwN9HB-a5dD-80LoL7UyAGDqF8=&amp;tbnid=YfXzhIX-4Y_3AM:&amp;tbnh=146&amp;tbnw=121&amp;ei=OO-zSPidNYrQetSZ_JUI&amp;prev=/images?q=daruma+doll&amp;um=1&amp;hl=en&amp;rlz=1T4ADBF_enUS221US222&amp;sa=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ollsofjapan.co.uk/images/daruma-doll.jpg&amp;imgrefurl=http://www.dollsofjapan.co.uk/daruma-doll.html&amp;h=223&amp;w=200&amp;sz=11&amp;hl=en&amp;start=3&amp;sig2=8uj1gCvTWUKBbiwT4tWKjw&amp;um=1&amp;usg=__rO8WBfZWYIEI-XW4BkniWhQ3WIk=&amp;tbnid=sPNYD2Lp9cJ-1M:&amp;tbnh=107&amp;tbnw=96&amp;ei=OO-zSPidNYrQetSZ_JUI&amp;prev=/images?q=daruma+doll&amp;um=1&amp;hl=en&amp;rlz=1T4ADBF_enUS221US222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eetamrai.com/weblog/images/DSCN4871.jpg&amp;imgrefurl=http://preetamrai.com/weblog/archives/2006/01/14/my-daruma-doll/&amp;h=369&amp;w=350&amp;sz=172&amp;hl=en&amp;start=4&amp;sig2=Vuk8TeF-WC8QQFKkbTm2Rw&amp;um=1&amp;usg=__agt5dF3beSZY9xVq-N84MiM1e-o=&amp;tbnid=AqR_baoyrj54xM:&amp;tbnh=122&amp;tbnw=116&amp;ei=OO-zSPidNYrQetSZ_JUI&amp;prev=/images?q=daruma+doll&amp;um=1&amp;hl=en&amp;rlz=1T4ADBF_enUS221US222&amp;sa=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vinylpulse.com/vp_pics/dacosta_bailey/dcto/ann/DCTO3ladv2_b.jpg&amp;imgrefurl=http://www.vinylpulse.com/2007/08/toy-of-the-week.html&amp;h=399&amp;w=500&amp;sz=168&amp;hl=en&amp;start=7&amp;sig2=OYJG3yny0Vtk6bK-8SMQwA&amp;um=1&amp;usg=__25wDOKy36i2MEXLrtvya_Ldi4CY=&amp;tbnid=IVQGy-6lhDlMAM:&amp;tbnh=104&amp;tbnw=130&amp;ei=OO-zSPidNYrQetSZ_JUI&amp;prev=/images?q=daruma+doll&amp;um=1&amp;hl=en&amp;rlz=1T4ADBF_enUS221US222&amp;sa=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visu.com/blog/wp-content/uploads/2007/09/daruma.thumbnail.jpg&amp;imgrefurl=http://www.evisu.com/blog/tag/jeans/&amp;h=400&amp;w=400&amp;sz=21&amp;hl=en&amp;start=10&amp;sig2=6ncOFQd6yNddoEbwDeQyJw&amp;um=1&amp;usg=__5-Hs7ep7Xz2YIO5vqsfcrgZ54HM=&amp;tbnid=eph19h8ykdaAiM:&amp;tbnh=124&amp;tbnw=124&amp;ei=OO-zSPidNYrQetSZ_JUI&amp;prev=/images?q=daruma+doll&amp;um=1&amp;hl=en&amp;rlz=1T4ADBF_enUS221US222&amp;sa=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pan.mrdonn.org/daruma2.gif&amp;imgrefurl=http://japan.mrdonn.org/daruma.html&amp;h=172&amp;w=211&amp;sz=12&amp;hl=en&amp;start=27&amp;sig2=XF2jqbzJyAnAxeITFXS66Q&amp;um=1&amp;usg=__UTGg8hi4CTmNCxvDD-ZSQ6jIFeg=&amp;tbnid=9QPwj3XFh9P2mM:&amp;tbnh=86&amp;tbnw=106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p1.blogger.com/_AdeUgwXpSAM/RmotHECpy3I/AAAAAAAACFI/aGrTfu90kYU/s400/0609+Matsukawapic.gif&amp;imgrefurl=http://darumadollmuseum.blogspot.com/2004_12_01_archive.html&amp;h=374&amp;w=400&amp;sz=266&amp;hl=en&amp;start=31&amp;sig2=SYr7vXxgG_WTsZQA6KWRSg&amp;um=1&amp;usg=___EnCZOFTDNg89nEMK6dcpR3oBko=&amp;tbnid=vrsOG3NnfsO8BM:&amp;tbnh=116&amp;tbnw=124&amp;ei=6O-zSIbkHaioecmKrY4I&amp;prev=/images?q=daruma+doll&amp;start=20&amp;ndsp=20&amp;um=1&amp;hl=en&amp;rlz=1T4ADBF_enUS221US222&amp;sa=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uma Do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tbn0.google.com/images?q=tbn:tRkG5dQXA7VlXM:http://www.evisu.com/blog/wp-content/uploads/2007/09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5440" y="2286000"/>
            <a:ext cx="32731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bn0.google.com/images?q=tbn:pcxJ2y-8ebq7EM:http://www11.ocn.ne.jp/~popyah/yamanashi/oyak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6840" y="1819440"/>
            <a:ext cx="42703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tbn0.google.com/images?q=tbn:f7tT3M3FwJogOM:http://www.highlightskids.com/Stories/NonFiction/images/NF0100_darumaS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25905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bn0.google.com/images?q=tbn:Jqvx4UryG7GHCM:http://www.yosare.com/kokeshi/abom-ph/abom-p02-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3280" y="1600200"/>
            <a:ext cx="3997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tbn0.google.com/images?q=tbn:eyaYhWZZN2mzkM:http://www.asahi-net.or.jp/~um8d-tmzk/matukaw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990720"/>
            <a:ext cx="38102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bn0.google.com/images?q=tbn:RSWx0MS9TSB8eM:http://farm1.static.flickr.com/31/51856893_a8227b8502.jpg%3Fv%3D0"/>
          <p:cNvPicPr/>
          <p:nvPr/>
        </p:nvPicPr>
        <p:blipFill>
          <a:blip r:embed="rId1"/>
          <a:stretch/>
        </p:blipFill>
        <p:spPr>
          <a:xfrm>
            <a:off x="2057400" y="1295280"/>
            <a:ext cx="45720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aruma doll"/>
          <p:cNvPicPr/>
          <p:nvPr/>
        </p:nvPicPr>
        <p:blipFill>
          <a:blip r:embed="rId1"/>
          <a:stretch/>
        </p:blipFill>
        <p:spPr>
          <a:xfrm>
            <a:off x="2495520" y="1217520"/>
            <a:ext cx="415296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800" y="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523880" y="1143000"/>
            <a:ext cx="594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 ni! fu ni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an Daruma g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kai zukin kaburi sunmaita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 times you may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ght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ise up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r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panese good luck sym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nds for the spirit of courage and deter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ed as a folk art doll so that no matter how it is tipped, it reverts to the upright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given when an individual starts something n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s personal goal setting; paint one eye when a goal is set and the other when it has been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your goal for this course?  Think, decide, and record it on the back of your “doll”.  Color in one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bn0.google.com/images?q=tbn:YfXzhIX-4Y_3AM:http://www.blogadilla.com/wp-content/uploads/2007/05/darum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9080" y="685800"/>
            <a:ext cx="3886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bn0.google.com/images?q=tbn:sPNYD2Lp9cJ-1M:http://www.dollsofjapan.co.uk/images/daruma-do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6400" y="1523880"/>
            <a:ext cx="28512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bn0.google.com/images?q=tbn:AqR_baoyrj54xM:http://preetamrai.com/weblog/images/DSCN48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066680"/>
            <a:ext cx="382932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bn0.google.com/images?q=tbn:IVQGy-6lhDlMAM:http://images.vinylpulse.com/vp_pics/dacosta_bailey/dcto/ann/DCTO3ladv2_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76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tbn0.google.com/images?q=tbn:eph19h8ykdaAiM:http://www.evisu.com/blog/wp-content/uploads/2007/09/daruma.thumbnai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52720" y="18097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bn0.google.com/images?q=tbn:9QPwj3XFh9P2mM:http://japan.mrdonn.org/daruma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05120"/>
            <a:ext cx="3076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tbn0.google.com/images?q=tbn:vrsOG3NnfsO8BM:http://bp1.blogger.com/_AdeUgwXpSAM/RmotHECpy3I/AAAAAAAACFI/aGrTfu90kYU/s400/0609%2BMatsukawapic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200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1:54:58Z</dcterms:created>
  <dc:creator>HP Authorized Customer</dc:creator>
  <dc:description/>
  <dc:language>en-US</dc:language>
  <cp:lastModifiedBy>testuser</cp:lastModifiedBy>
  <dcterms:modified xsi:type="dcterms:W3CDTF">2009-01-06T21:00:44Z</dcterms:modified>
  <cp:revision>3</cp:revision>
  <dc:subject/>
  <dc:title>Daruma Dolls</dc:title>
</cp:coreProperties>
</file>